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2F6-A922-4929-9DB9-71F2C3CF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C92-EDDA-4587-B517-4E487D62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3AC-26FD-4321-9B22-6690DCE8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118-421B-4B6C-B253-F9A3F5CF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08C-D5CC-4390-B17E-30D4551C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962-AE9A-42DF-B76F-80F3285E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778-2B78-4188-8FAC-8B1B5786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653-B9F6-4CA0-BAF7-72210A1D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781-87FF-42F8-87EA-FED67201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2FC-05C1-460D-BDF0-CBEE71D1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CF6-B7F4-4BDA-BCF4-DBBEC1AF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8CDF-C117-4BCD-99E0-503EFC0C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DF71-45B5-4C35-97E6-3978AA4BA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4640"/>
            <a:ext cx="2411280" cy="792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916280"/>
            <a:ext cx="2521080" cy="165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ZIONE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di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e vanno all’ester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119700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54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189000"/>
            <a:ext cx="2232000" cy="93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vann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in un a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5640" y="1052640"/>
            <a:ext cx="1224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54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83664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43640" y="189000"/>
            <a:ext cx="158436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59640" y="1052640"/>
            <a:ext cx="1152360" cy="1728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ggire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e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rre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268280"/>
            <a:ext cx="2736720" cy="1873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in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 stranieri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e cer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36000" y="3284640"/>
            <a:ext cx="1152360" cy="1657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rat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40720" y="4941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5516640"/>
            <a:ext cx="1562040" cy="64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/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940000" y="4581360"/>
            <a:ext cx="129564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5661000"/>
            <a:ext cx="1224000" cy="50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221000"/>
            <a:ext cx="1851120" cy="187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 italiani s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 emigranti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ti paesi, 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meno di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, lo s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he o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465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4292640"/>
            <a:ext cx="158436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 princip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555640" y="4869000"/>
            <a:ext cx="360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869000"/>
            <a:ext cx="14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5661000"/>
            <a:ext cx="79236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6453360"/>
            <a:ext cx="1224000" cy="40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. S . 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16640"/>
            <a:ext cx="1223640" cy="71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3141720"/>
            <a:ext cx="1008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4797360"/>
            <a:ext cx="7272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8:09:40Z</dcterms:created>
  <dc:creator>studente</dc:creator>
  <dc:description/>
  <dc:language>en-US</dc:language>
  <cp:lastModifiedBy>studente</cp:lastModifiedBy>
  <dcterms:modified xsi:type="dcterms:W3CDTF">2016-12-05T08:58:44Z</dcterms:modified>
  <cp:revision>4</cp:revision>
  <dc:subject/>
  <dc:title>Diapositiva 1</dc:title>
</cp:coreProperties>
</file>